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9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BC46F-A6F1-4D24-BCFE-F11A71F668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BB3FB-1B8F-41C6-AB99-547EA9DDE1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289B4-030A-4332-AF1B-8A6EF33438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6A0C2-654F-4148-8753-614FC93B7F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F0889-8FF4-4ADB-9F13-2B8F42B954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B61B4-F50C-470B-BA13-8B3BE8A5AA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AC1A2-697D-4608-8E87-AB1E8228BD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450D8-8256-4FED-B995-F20295DCB1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CE773-DC91-4C1C-82AA-196B335A90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1C145-0998-47C8-875E-1F3B88746A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84DE2-87E7-4951-A105-AA0A1CC81D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26BF0-86F2-4C6E-8A91-337F4466DC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EF1AB-0E05-4EF2-B66B-F4F16AC17B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F6BA6-A4E8-4B6F-85AB-08907F0318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1FC02-7CCD-4DC6-B001-59F7DEA3F2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36C92-3A7C-4E9E-9601-98BC57D997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26997-7FF3-4142-BDAC-3AB0933F21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A775B-3B49-4808-88BC-A1C577C87B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9BF70-805D-4764-8716-6342EED033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2063C-20BC-412E-ADB4-48D4D9C74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53344-75E8-43CE-99F3-9BE24ED75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E7B32-086F-45C4-8300-3EB878B32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5C474-2285-4956-8C75-97ED014F5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F1612-90DD-44DE-807C-F85AE4DDF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B5163-153D-4560-AB8D-8CC31A05F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BBCF8-F70B-4EA8-BD5B-C4E12FE71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6965A-C355-44D1-8129-E40C4C77C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7C627-E16B-4E97-81B0-E74DFFA7E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42470-7086-4C1D-B109-4A40CEB22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D0FE1-1C6B-41BD-BC66-2818643B7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672AA-0ACF-4FEE-BCF6-8DE9D72E0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16DFD-F7C2-496B-8009-FC3CFF0D6A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28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оверка оборудования, используемого в микробиологической лаборатор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EB027-263D-43A3-A540-5CE5CFD59D94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280E8-328D-43AB-A312-4124EBE786E8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борудование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икробиолог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01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нтролируйте температуру в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рмостат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олодильник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розильных камерах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веряйте работ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втоматических пипет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втоклав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тр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сов и измерительных прибор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едите запис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6" descr="Incubator"/>
          <p:cNvPicPr/>
          <p:nvPr/>
        </p:nvPicPr>
        <p:blipFill>
          <a:blip r:embed="rId1"/>
          <a:stretch/>
        </p:blipFill>
        <p:spPr>
          <a:xfrm>
            <a:off x="6781680" y="1219320"/>
            <a:ext cx="2114640" cy="28191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Pipettes"/>
          <p:cNvPicPr/>
          <p:nvPr/>
        </p:nvPicPr>
        <p:blipFill>
          <a:blip r:embed="rId2"/>
          <a:stretch/>
        </p:blipFill>
        <p:spPr>
          <a:xfrm>
            <a:off x="6477120" y="4267080"/>
            <a:ext cx="2361960" cy="22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39105-14E3-4C83-85A6-37988363F6E9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Object 2"/>
          <p:cNvGraphicFramePr/>
          <p:nvPr/>
        </p:nvGraphicFramePr>
        <p:xfrm>
          <a:off x="1220760" y="1447920"/>
          <a:ext cx="670248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0760" y="1447920"/>
                    <a:ext cx="670248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9E8EB-50D3-49CD-902F-C1FBADE1E9F0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04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терилизац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2"/>
          <p:cNvSpPr/>
          <p:nvPr/>
        </p:nvSpPr>
        <p:spPr>
          <a:xfrm>
            <a:off x="6414480" y="1219320"/>
            <a:ext cx="2012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Стериль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сре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реаген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материал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3"/>
          <p:cNvSpPr/>
          <p:nvPr/>
        </p:nvSpPr>
        <p:spPr>
          <a:xfrm>
            <a:off x="6553080" y="4660920"/>
            <a:ext cx="22021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Безопасны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отходы, готовые к удалени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5"/>
          <p:cNvSpPr/>
          <p:nvPr/>
        </p:nvSpPr>
        <p:spPr>
          <a:xfrm>
            <a:off x="533520" y="1219320"/>
            <a:ext cx="2438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Приготовление сре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реаген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материал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8" descr="Autoclave1"/>
          <p:cNvPicPr/>
          <p:nvPr/>
        </p:nvPicPr>
        <p:blipFill>
          <a:blip r:embed="rId1"/>
          <a:stretch/>
        </p:blipFill>
        <p:spPr>
          <a:xfrm>
            <a:off x="3429000" y="2362320"/>
            <a:ext cx="2286000" cy="304776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27"/>
          <p:cNvSpPr/>
          <p:nvPr/>
        </p:nvSpPr>
        <p:spPr>
          <a:xfrm>
            <a:off x="3429000" y="1676520"/>
            <a:ext cx="2590920" cy="838080"/>
          </a:xfrm>
          <a:custGeom>
            <a:avLst/>
            <a:gdLst>
              <a:gd name="textAreaLeft" fmla="*/ 404640 w 2590920"/>
              <a:gd name="textAreaRight" fmla="*/ 2267280 w 259092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6"/>
          <p:cNvSpPr/>
          <p:nvPr/>
        </p:nvSpPr>
        <p:spPr>
          <a:xfrm>
            <a:off x="228600" y="4952880"/>
            <a:ext cx="3429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Контаминированные отхо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27"/>
          <p:cNvSpPr/>
          <p:nvPr/>
        </p:nvSpPr>
        <p:spPr>
          <a:xfrm>
            <a:off x="3429000" y="5181480"/>
            <a:ext cx="2590920" cy="838440"/>
          </a:xfrm>
          <a:custGeom>
            <a:avLst/>
            <a:gdLst>
              <a:gd name="textAreaLeft" fmla="*/ 404640 w 2590920"/>
              <a:gd name="textAreaRight" fmla="*/ 2267280 w 2590920"/>
              <a:gd name="textAreaTop" fmla="*/ 209520 h 838440"/>
              <a:gd name="textAreaBottom" fmla="*/ 628920 h 8384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AB240-12FE-41B5-90CD-CAE80B9B1090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вухэтапный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онтроль стерилиз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73152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3300"/>
                </a:solidFill>
                <a:latin typeface="Arial"/>
              </a:rPr>
              <a:t>Контроль процес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Химические индикато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актериологические индикато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3300"/>
                </a:solidFill>
                <a:latin typeface="Arial"/>
              </a:rPr>
              <a:t>Контроль стерильности продук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ст на рос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91A6D-DE88-45EE-A979-3F00EF57A19E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ндикаторы стерилиз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3" descr="indicateurs-chimiques"/>
          <p:cNvPicPr/>
          <p:nvPr/>
        </p:nvPicPr>
        <p:blipFill>
          <a:blip r:embed="rId1"/>
          <a:stretch/>
        </p:blipFill>
        <p:spPr>
          <a:xfrm>
            <a:off x="1905120" y="1828800"/>
            <a:ext cx="2286000" cy="17146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4" descr="indicateurs-biologiques"/>
          <p:cNvPicPr/>
          <p:nvPr/>
        </p:nvPicPr>
        <p:blipFill>
          <a:blip r:embed="rId2"/>
          <a:stretch/>
        </p:blipFill>
        <p:spPr>
          <a:xfrm>
            <a:off x="4952880" y="1676520"/>
            <a:ext cx="2514600" cy="19047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6" descr="mediawebserver"/>
          <p:cNvPicPr/>
          <p:nvPr/>
        </p:nvPicPr>
        <p:blipFill>
          <a:blip r:embed="rId3"/>
          <a:stretch/>
        </p:blipFill>
        <p:spPr>
          <a:xfrm>
            <a:off x="4876920" y="4114800"/>
            <a:ext cx="1623960" cy="16765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2" descr="ds_m_01_Autoclave2"/>
          <p:cNvPicPr/>
          <p:nvPr/>
        </p:nvPicPr>
        <p:blipFill>
          <a:blip r:embed="rId4"/>
          <a:stretch/>
        </p:blipFill>
        <p:spPr>
          <a:xfrm>
            <a:off x="2666880" y="457200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0" descr="autoclave%20tape%20steam"/>
          <p:cNvPicPr/>
          <p:nvPr/>
        </p:nvPicPr>
        <p:blipFill>
          <a:blip r:embed="rId5"/>
          <a:stretch/>
        </p:blipFill>
        <p:spPr>
          <a:xfrm>
            <a:off x="1066680" y="4038480"/>
            <a:ext cx="167652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Slide Number Placeholder 4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CBFD4-A00F-4CA9-90A9-FEE9B1827BE7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ндикаторы стерилиз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3886200" cy="302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Химическ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мпература соответствует требуемой для стерилизац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 проверяют время и давл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47960" y="1218960"/>
            <a:ext cx="4267080" cy="254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8080"/>
                </a:solidFill>
                <a:latin typeface="Arial"/>
              </a:rPr>
              <a:t>Биологическ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мпература, время и давление соответствуют требуемым для стерилиз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8"/>
          <p:cNvSpPr/>
          <p:nvPr/>
        </p:nvSpPr>
        <p:spPr>
          <a:xfrm>
            <a:off x="533520" y="4419720"/>
            <a:ext cx="8153280" cy="2047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 Narrow"/>
              </a:rPr>
              <a:t>Имейте в виду</a:t>
            </a: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Narrow"/>
              </a:rPr>
              <a:t>Ни один из индикаторов не гарантирует стерилизацию, если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Narrow"/>
              </a:rPr>
              <a:t>Автоклав перегруже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Narrow"/>
              </a:rPr>
              <a:t>Объем сред слишком больш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4498C-A500-4C7C-B1C8-4D1863A9F3C0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"/>
          <p:cNvPicPr/>
          <p:nvPr/>
        </p:nvPicPr>
        <p:blipFill>
          <a:blip r:embed="rId1"/>
          <a:srcRect l="0" t="0" r="0" b="40007"/>
          <a:stretch/>
        </p:blipFill>
        <p:spPr>
          <a:xfrm>
            <a:off x="304920" y="1600200"/>
            <a:ext cx="8534160" cy="41148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Журнал стерилиз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14035-269C-4741-88D3-F0AD5C7161E3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76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икроскоп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4060_research_large"/>
          <p:cNvPicPr/>
          <p:nvPr/>
        </p:nvPicPr>
        <p:blipFill>
          <a:blip r:embed="rId1"/>
          <a:stretch/>
        </p:blipFill>
        <p:spPr>
          <a:xfrm>
            <a:off x="304920" y="1676520"/>
            <a:ext cx="3522600" cy="4016160"/>
          </a:xfrm>
          <a:prstGeom prst="rect">
            <a:avLst/>
          </a:prstGeom>
          <a:ln w="0">
            <a:noFill/>
          </a:ln>
        </p:spPr>
      </p:pic>
      <p:sp>
        <p:nvSpPr>
          <p:cNvPr id="88" name="Text Box 5"/>
          <p:cNvSpPr/>
          <p:nvPr/>
        </p:nvSpPr>
        <p:spPr>
          <a:xfrm>
            <a:off x="3733920" y="1295280"/>
            <a:ext cx="5181480" cy="5029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7840" indent="-447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Narrow"/>
              </a:rPr>
              <a:t>Содержите линзы в чисто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Narrow"/>
              </a:rPr>
              <a:t>Имейте по крайней мере один иммерсионный объектив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(</a:t>
            </a:r>
            <a:r>
              <a:rPr b="1" lang="ru-RU" sz="2400" spc="-1" strike="noStrike">
                <a:solidFill>
                  <a:srgbClr val="ffffff"/>
                </a:solidFill>
                <a:latin typeface="Arial Narrow"/>
              </a:rPr>
              <a:t>х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1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Narrow"/>
              </a:rPr>
              <a:t>Используйте подпружиненные объектив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Narrow"/>
              </a:rPr>
              <a:t>Не допускайте попадания масла на не иммерсионные объектив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Narrow"/>
              </a:rPr>
              <a:t>Следите за тем, чтобы образец не оказался выше </a:t>
            </a: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линзы объекти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00"/>
                </a:solidFill>
                <a:latin typeface="Arial Narrow"/>
              </a:rPr>
              <a:t>Поддерживайте равномерное освещение (освещение по Келеру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2T03:48:55Z</dcterms:created>
  <dc:creator>Robin Barteluk</dc:creator>
  <dc:description/>
  <dc:language>en-US</dc:language>
  <cp:lastModifiedBy>Olga</cp:lastModifiedBy>
  <dcterms:modified xsi:type="dcterms:W3CDTF">2013-05-08T12:35:27Z</dcterms:modified>
  <cp:revision>40</cp:revision>
  <dc:subject/>
  <dc:title>Slide 1</dc:title>
</cp:coreProperties>
</file>